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CDA7-A877-4363-998E-C54B3F1492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BBF9-F10C-41F0-8377-76A848D2B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371B-8F91-4B5F-ABFF-3BD349A4E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033-F5E5-4086-A8AE-AC26ECEA2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281A-0A8C-4B7A-8823-BCBEF93D8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B09-1686-4FA1-97EA-84AF9608A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7BE8-BCC1-459F-9F16-3AAC011EA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4901-6D18-4BF7-9DA5-B1A17974A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58D-4CEA-4A2A-B8F6-505230D3DD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909-1FAB-42DA-BD80-6F1975833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C3F-50A8-4E65-BDC7-846C8AE7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E8E-D074-4D29-8F9C-93A686CE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E22-5574-4CCA-9EE1-03D85946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2BA-2386-4CB3-BAF2-AC38D45E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8EC5-BAE7-4B32-AF1A-B098B098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72F-2809-4EB0-BA06-55C7044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EDB-4869-43F4-ABB3-1EE59D63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AAC-D353-44B9-AAA1-3D5473C1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AD7-4C6B-4C02-91F9-EDA10FE1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C11-5068-4281-97DD-0767FCE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329-131D-4E9F-A9DF-A9F699C5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288-537F-4B20-B272-7E91D454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6D79-3C27-462F-92DE-D8D07F277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263520" y="4348080"/>
            <a:ext cx="336852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50920" y="221472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1267"/>
                </a:solidFill>
                <a:latin typeface="Calibri"/>
              </a:rPr>
              <a:t>Сообщество «Сделаем вместе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51" name="Content Placeholder 4"/>
          <p:cNvSpPr/>
          <p:nvPr/>
        </p:nvSpPr>
        <p:spPr>
          <a:xfrm>
            <a:off x="468360" y="2984400"/>
            <a:ext cx="84978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- это 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отни тысяч добровольцев, которые, независимо от политических и религиозных взглядов или профессиональных предпочтений,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содействуют развитию в России современной отрасли по обращению с отходами.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  Работа в этом направлении направлена на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овышение качества окружающей среды</a:t>
            </a: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, привлечение внимания населения к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проблемам экологии и способам их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rcRect l="6002" t="0" r="4252" b="0"/>
          <a:stretch/>
        </p:blipFill>
        <p:spPr>
          <a:xfrm>
            <a:off x="272880" y="4751280"/>
            <a:ext cx="18464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1947960" y="5537160"/>
            <a:ext cx="148572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4"/>
          <a:stretch/>
        </p:blipFill>
        <p:spPr>
          <a:xfrm>
            <a:off x="423720" y="5603760"/>
            <a:ext cx="136224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2195640" y="4732200"/>
            <a:ext cx="1238040" cy="77184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4"/>
          <p:cNvSpPr/>
          <p:nvPr/>
        </p:nvSpPr>
        <p:spPr>
          <a:xfrm>
            <a:off x="4365720" y="4348080"/>
            <a:ext cx="455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Проект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«ЭкоЗн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ероприятия, материалы, пособия по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му просвещ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4"/>
          <p:cNvSpPr/>
          <p:nvPr/>
        </p:nvSpPr>
        <p:spPr>
          <a:xfrm>
            <a:off x="1104840" y="4348080"/>
            <a:ext cx="18511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1267"/>
                </a:solidFill>
                <a:latin typeface="Calibri"/>
              </a:rPr>
              <a:t>Наши 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2195640" y="4732200"/>
            <a:ext cx="1238040" cy="871560"/>
          </a:xfrm>
          <a:prstGeom prst="ellipse">
            <a:avLst/>
          </a:prstGeom>
          <a:noFill/>
          <a:ln w="25560">
            <a:solidFill>
              <a:srgbClr val="f212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право 16"/>
          <p:cNvSpPr/>
          <p:nvPr/>
        </p:nvSpPr>
        <p:spPr>
          <a:xfrm>
            <a:off x="3632040" y="5111640"/>
            <a:ext cx="733680" cy="72072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1"/>
          <p:cNvSpPr/>
          <p:nvPr/>
        </p:nvSpPr>
        <p:spPr>
          <a:xfrm>
            <a:off x="4383000" y="4348080"/>
            <a:ext cx="4538880" cy="224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4"/>
          <p:cNvSpPr/>
          <p:nvPr/>
        </p:nvSpPr>
        <p:spPr>
          <a:xfrm>
            <a:off x="4527720" y="5348160"/>
            <a:ext cx="368928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Мультфиль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ечатны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409e"/>
                </a:solidFill>
                <a:uFillTx/>
                <a:latin typeface="Calibri"/>
              </a:rPr>
              <a:t>Эко-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Sea\Рабочий стол\ЭкоЗнание\Комикс\Plakats_3(2).jpg"/>
          <p:cNvPicPr/>
          <p:nvPr/>
        </p:nvPicPr>
        <p:blipFill>
          <a:blip r:embed="rId6"/>
          <a:stretch/>
        </p:blipFill>
        <p:spPr>
          <a:xfrm>
            <a:off x="7280280" y="5397480"/>
            <a:ext cx="1440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7547040" y="3816360"/>
            <a:ext cx="695160" cy="13842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Эко-уроки «Сделаем вместе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ontent Placeholder 4"/>
          <p:cNvSpPr/>
          <p:nvPr/>
        </p:nvSpPr>
        <p:spPr>
          <a:xfrm>
            <a:off x="395280" y="3357720"/>
            <a:ext cx="475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Sea\Рабочий стол\ЭкоЗнание\Детская акция - стоп-кадры\Детская акция Убирай-ка! в с. Красный путь[(000571)14-13-24].JPG"/>
          <p:cNvPicPr/>
          <p:nvPr/>
        </p:nvPicPr>
        <p:blipFill>
          <a:blip r:embed="rId3"/>
          <a:stretch/>
        </p:blipFill>
        <p:spPr>
          <a:xfrm>
            <a:off x="92160" y="5237280"/>
            <a:ext cx="1985760" cy="247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Documents and Settings\Sea\Рабочий стол\ЭкоЗнание\Детская акция - стоп-кадры\Детская акция Убирай-ка! в с. Красный путь[(000781)14-13-48].JPG"/>
          <p:cNvPicPr/>
          <p:nvPr/>
        </p:nvPicPr>
        <p:blipFill>
          <a:blip r:embed="rId4"/>
          <a:stretch/>
        </p:blipFill>
        <p:spPr>
          <a:xfrm>
            <a:off x="2371680" y="5224320"/>
            <a:ext cx="2035080" cy="2505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Sea\Рабочий стол\ЭкоЗнание\Отчет (Детская акция)\Ленинский\7 октября д.д молодая гвардия\DSC00753.JPG"/>
          <p:cNvPicPr/>
          <p:nvPr/>
        </p:nvPicPr>
        <p:blipFill>
          <a:blip r:embed="rId5"/>
          <a:stretch/>
        </p:blipFill>
        <p:spPr>
          <a:xfrm>
            <a:off x="4730760" y="5237280"/>
            <a:ext cx="2041560" cy="247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Sea\Рабочий стол\ЭкоЗнание\Отчет (Детская акция)\Солнечногорский\IMG_4526.JPG"/>
          <p:cNvPicPr/>
          <p:nvPr/>
        </p:nvPicPr>
        <p:blipFill>
          <a:blip r:embed="rId6"/>
          <a:stretch/>
        </p:blipFill>
        <p:spPr>
          <a:xfrm>
            <a:off x="7034040" y="5267160"/>
            <a:ext cx="1976760" cy="241308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ый прямоугольник 2"/>
          <p:cNvSpPr/>
          <p:nvPr/>
        </p:nvSpPr>
        <p:spPr>
          <a:xfrm>
            <a:off x="187200" y="3429000"/>
            <a:ext cx="215928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18"/>
          <p:cNvSpPr/>
          <p:nvPr/>
        </p:nvSpPr>
        <p:spPr>
          <a:xfrm>
            <a:off x="2390760" y="3429000"/>
            <a:ext cx="21607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0"/>
          <p:cNvSpPr/>
          <p:nvPr/>
        </p:nvSpPr>
        <p:spPr>
          <a:xfrm>
            <a:off x="4595760" y="3429000"/>
            <a:ext cx="215892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21"/>
          <p:cNvSpPr/>
          <p:nvPr/>
        </p:nvSpPr>
        <p:spPr>
          <a:xfrm>
            <a:off x="6799320" y="3429000"/>
            <a:ext cx="2160360" cy="136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tent Placeholder 4"/>
          <p:cNvSpPr/>
          <p:nvPr/>
        </p:nvSpPr>
        <p:spPr>
          <a:xfrm>
            <a:off x="6831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4"/>
          <p:cNvSpPr/>
          <p:nvPr/>
        </p:nvSpPr>
        <p:spPr>
          <a:xfrm>
            <a:off x="6831000" y="4403880"/>
            <a:ext cx="20970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7"/>
          <a:stretch/>
        </p:blipFill>
        <p:spPr>
          <a:xfrm>
            <a:off x="5073480" y="3830760"/>
            <a:ext cx="1203480" cy="633240"/>
          </a:xfrm>
          <a:prstGeom prst="rect">
            <a:avLst/>
          </a:prstGeom>
          <a:ln w="0">
            <a:noFill/>
          </a:ln>
        </p:spPr>
      </p:pic>
      <p:sp>
        <p:nvSpPr>
          <p:cNvPr id="78" name="Content Placeholder 4"/>
          <p:cNvSpPr/>
          <p:nvPr/>
        </p:nvSpPr>
        <p:spPr>
          <a:xfrm>
            <a:off x="4626000" y="342900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ля дете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4"/>
          <p:cNvSpPr/>
          <p:nvPr/>
        </p:nvSpPr>
        <p:spPr>
          <a:xfrm>
            <a:off x="4803840" y="4395960"/>
            <a:ext cx="17431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4"/>
          <p:cNvSpPr/>
          <p:nvPr/>
        </p:nvSpPr>
        <p:spPr>
          <a:xfrm>
            <a:off x="219240" y="3429000"/>
            <a:ext cx="2095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в школа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tent Placeholder 4"/>
          <p:cNvSpPr/>
          <p:nvPr/>
        </p:nvSpPr>
        <p:spPr>
          <a:xfrm>
            <a:off x="219240" y="4395960"/>
            <a:ext cx="20952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детских до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560" y="2924280"/>
            <a:ext cx="87138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Уроки и практические занятия </a:t>
            </a: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– первый шаг в 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экологическом воспит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8"/>
          <a:stretch/>
        </p:blipFill>
        <p:spPr>
          <a:xfrm>
            <a:off x="743040" y="3795840"/>
            <a:ext cx="1047600" cy="703080"/>
          </a:xfrm>
          <a:prstGeom prst="rect">
            <a:avLst/>
          </a:prstGeom>
          <a:ln w="0">
            <a:noFill/>
          </a:ln>
        </p:spPr>
      </p:pic>
      <p:sp>
        <p:nvSpPr>
          <p:cNvPr id="84" name="Content Placeholder 4"/>
          <p:cNvSpPr/>
          <p:nvPr/>
        </p:nvSpPr>
        <p:spPr>
          <a:xfrm>
            <a:off x="2400480" y="3460680"/>
            <a:ext cx="2097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нтерактивно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4"/>
          <p:cNvSpPr/>
          <p:nvPr/>
        </p:nvSpPr>
        <p:spPr>
          <a:xfrm>
            <a:off x="2581200" y="4330800"/>
            <a:ext cx="17352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нагля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Двойная стрелка влево/вправо 1"/>
          <p:cNvSpPr/>
          <p:nvPr/>
        </p:nvSpPr>
        <p:spPr>
          <a:xfrm>
            <a:off x="2627280" y="3973680"/>
            <a:ext cx="574560" cy="349200"/>
          </a:xfrm>
          <a:prstGeom prst="leftRightArrow">
            <a:avLst>
              <a:gd name="adj1" fmla="val 50000"/>
              <a:gd name="adj2" fmla="val 50001"/>
            </a:avLst>
          </a:prstGeom>
          <a:solidFill>
            <a:srgbClr val="92d050"/>
          </a:solidFill>
          <a:ln w="25560">
            <a:solidFill>
              <a:srgbClr val="719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"/>
          <p:cNvSpPr/>
          <p:nvPr/>
        </p:nvSpPr>
        <p:spPr>
          <a:xfrm>
            <a:off x="3441600" y="3987720"/>
            <a:ext cx="0" cy="365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9"/>
          <p:cNvGrpSpPr/>
          <p:nvPr/>
        </p:nvGrpSpPr>
        <p:grpSpPr>
          <a:xfrm>
            <a:off x="3641760" y="4000680"/>
            <a:ext cx="604800" cy="293400"/>
            <a:chOff x="3641760" y="4000680"/>
            <a:chExt cx="604800" cy="293400"/>
          </a:xfrm>
        </p:grpSpPr>
        <p:sp>
          <p:nvSpPr>
            <p:cNvPr id="89" name="Овал 6"/>
            <p:cNvSpPr/>
            <p:nvPr/>
          </p:nvSpPr>
          <p:spPr>
            <a:xfrm>
              <a:off x="3641760" y="4000680"/>
              <a:ext cx="604800" cy="2934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Овал 7"/>
            <p:cNvSpPr/>
            <p:nvPr/>
          </p:nvSpPr>
          <p:spPr>
            <a:xfrm>
              <a:off x="3840120" y="4040280"/>
              <a:ext cx="2077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Цель 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Повысить уровень </a:t>
            </a: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экологической культуры и образования </a:t>
            </a:r>
            <a:r>
              <a:rPr b="0" lang="ru-RU" sz="2000" spc="-1" strike="noStrike">
                <a:solidFill>
                  <a:srgbClr val="16409e"/>
                </a:solidFill>
                <a:latin typeface="Calibri"/>
              </a:rPr>
              <a:t>в Росси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цивилизованного 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обращения с отход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 части сознательного</a:t>
            </a:r>
            <a:r>
              <a:rPr b="1" lang="ru-RU" sz="1600" spc="-1" strike="noStrike">
                <a:solidFill>
                  <a:srgbClr val="16409e"/>
                </a:solidFill>
                <a:latin typeface="Calibri"/>
              </a:rPr>
              <a:t> поведения на природ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330720" y="4375080"/>
            <a:ext cx="23382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Задачи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tent Placeholder 4"/>
          <p:cNvSpPr/>
          <p:nvPr/>
        </p:nvSpPr>
        <p:spPr>
          <a:xfrm>
            <a:off x="395280" y="3357720"/>
            <a:ext cx="87138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4637160" y="3789360"/>
            <a:ext cx="478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sp>
        <p:nvSpPr>
          <p:cNvPr id="99" name="Content Placeholder 4"/>
          <p:cNvSpPr/>
          <p:nvPr/>
        </p:nvSpPr>
        <p:spPr>
          <a:xfrm>
            <a:off x="1763640" y="2997360"/>
            <a:ext cx="6985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оказать всю серьезность проблемы отходов в России и в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возможных вариантах обращения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Рассказать о комплексном подходе как наилучшем реш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Объяснить, что каждый из нас может сделать для улучшения ситуации</a:t>
            </a:r>
            <a:br>
              <a:rPr sz="1800"/>
            </a:b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сти урок, как яркое и запоминающееся собы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Снабдить учителей и детей красивыми и наглядными материалами, которые захочется сохранить и показать друг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Через детей донести информацию до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6409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0" descr=""/>
          <p:cNvPicPr/>
          <p:nvPr/>
        </p:nvPicPr>
        <p:blipFill>
          <a:blip r:embed="rId2"/>
          <a:stretch/>
        </p:blipFill>
        <p:spPr>
          <a:xfrm>
            <a:off x="179280" y="299736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Содержание эко-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О проблеме от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Почему мусора стало так м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Отходы накапливаются и никуда не исчезаю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Что делать с отх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Захоронение на полиго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Сжиг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Вторичная переработ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ост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65680" indent="-141480">
              <a:spcBef>
                <a:spcPts val="400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409e"/>
                </a:solidFill>
                <a:latin typeface="Calibri"/>
              </a:rPr>
              <a:t>Комплексный подх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1480" indent="-141480">
              <a:spcBef>
                <a:spcPts val="499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409e"/>
                </a:solidFill>
                <a:latin typeface="Calibri"/>
              </a:rPr>
              <a:t>Игры и практическ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Sea\Рабочий стол\ЭкоЗнание\Комикс\Plakats_2(2).jpg"/>
          <p:cNvPicPr/>
          <p:nvPr/>
        </p:nvPicPr>
        <p:blipFill>
          <a:blip r:embed="rId2"/>
          <a:stretch/>
        </p:blipFill>
        <p:spPr>
          <a:xfrm>
            <a:off x="4581360" y="4770360"/>
            <a:ext cx="2227320" cy="157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Picture 4" descr=""/>
          <p:cNvPicPr/>
          <p:nvPr/>
        </p:nvPicPr>
        <p:blipFill>
          <a:blip r:embed="rId3"/>
          <a:srcRect l="75002" t="10308" r="2147" b="36637"/>
          <a:stretch/>
        </p:blipFill>
        <p:spPr>
          <a:xfrm>
            <a:off x="7423200" y="4608360"/>
            <a:ext cx="1307880" cy="18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Picture 8" descr="C:\Documents and Settings\Sea\Рабочий стол\ЭкоЗнание\Убирайка\Фото\МусорВМире\МусорныйОстров-2.jpg"/>
          <p:cNvPicPr/>
          <p:nvPr/>
        </p:nvPicPr>
        <p:blipFill>
          <a:blip r:embed="rId4"/>
          <a:stretch/>
        </p:blipFill>
        <p:spPr>
          <a:xfrm>
            <a:off x="5638680" y="2664000"/>
            <a:ext cx="27990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Формат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298404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ли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45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Аудитория</a:t>
            </a:r>
            <a:r>
              <a:rPr b="1" lang="en-US" sz="1800" spc="-1" strike="noStrike">
                <a:solidFill>
                  <a:srgbClr val="16409e"/>
                </a:solidFill>
                <a:latin typeface="Calibri"/>
              </a:rPr>
              <a:t>/</a:t>
            </a: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кол-во преподава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30 человек – 1 препода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60 человек – 2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До 90 человек – 3 преподава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Необходимое оборуд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ТВ или проектор, доска для рис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Дополнительные оп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Формат адаптируется под конкретные условия проведения эко-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64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409e"/>
                </a:solidFill>
                <a:latin typeface="Calibri"/>
              </a:rPr>
              <a:t>Проведение субботника (организация вывоза мусор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Sea\Рабочий стол\ЭкоЗнание\Детская акция - стоп-кадры\Детская акция Убирай-ка! в с. Красный путь[(000391)14-12-59].JPG"/>
          <p:cNvPicPr/>
          <p:nvPr/>
        </p:nvPicPr>
        <p:blipFill>
          <a:blip r:embed="rId2"/>
          <a:stretch/>
        </p:blipFill>
        <p:spPr>
          <a:xfrm>
            <a:off x="4857840" y="3498840"/>
            <a:ext cx="376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Организация серии ур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560" y="3284280"/>
            <a:ext cx="4321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Заявка на проведение уро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Расчет сто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писание догов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одбор и обучение волонт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огласование с учреждени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Проведение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Отчет об у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buClr>
                <a:srgbClr val="16409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50840" indent="-150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409e"/>
                </a:solidFill>
                <a:latin typeface="Calibri"/>
              </a:rPr>
              <a:t>Срок подготовки – около 3х нед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4516560" y="2822400"/>
            <a:ext cx="44766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Группа 3"/>
          <p:cNvGrpSpPr/>
          <p:nvPr/>
        </p:nvGrpSpPr>
        <p:grpSpPr>
          <a:xfrm>
            <a:off x="2664000" y="2852640"/>
            <a:ext cx="6300720" cy="3424680"/>
            <a:chOff x="2664000" y="2852640"/>
            <a:chExt cx="6300720" cy="3424680"/>
          </a:xfrm>
        </p:grpSpPr>
        <p:sp>
          <p:nvSpPr>
            <p:cNvPr id="118" name="Content Placeholder 4"/>
            <p:cNvSpPr/>
            <p:nvPr/>
          </p:nvSpPr>
          <p:spPr>
            <a:xfrm>
              <a:off x="2664000" y="2852640"/>
              <a:ext cx="630072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 «День Экологии сознания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ntent Placeholder 4"/>
            <p:cNvSpPr/>
            <p:nvPr/>
          </p:nvSpPr>
          <p:spPr>
            <a:xfrm>
              <a:off x="3363840" y="4273920"/>
              <a:ext cx="51800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:  7515165</a:t>
              </a:r>
              <a:r>
                <a:rPr b="1" lang="en-US" sz="2000" spc="-1" strike="noStrike">
                  <a:solidFill>
                    <a:srgbClr val="16409e"/>
                  </a:solidFill>
                  <a:latin typeface="Calibri"/>
                </a:rPr>
                <a:t>@mail.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Content Placeholder 4"/>
            <p:cNvSpPr/>
            <p:nvPr/>
          </p:nvSpPr>
          <p:spPr>
            <a:xfrm>
              <a:off x="2664000" y="5418000"/>
              <a:ext cx="45244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рямоугольник 9"/>
            <p:cNvSpPr/>
            <p:nvPr/>
          </p:nvSpPr>
          <p:spPr>
            <a:xfrm>
              <a:off x="2733840" y="4765680"/>
              <a:ext cx="618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Телефон: 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495) 789-47-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рямоугольник 12"/>
            <p:cNvSpPr/>
            <p:nvPr/>
          </p:nvSpPr>
          <p:spPr>
            <a:xfrm>
              <a:off x="2664000" y="5695920"/>
              <a:ext cx="622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4041720"/>
            <a:ext cx="2760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1"/>
          <p:cNvSpPr/>
          <p:nvPr/>
        </p:nvSpPr>
        <p:spPr>
          <a:xfrm>
            <a:off x="250920" y="2214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1267"/>
                </a:solidFill>
                <a:latin typeface="Calibri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Sea\Рабочий стол\Сайт Всероссийской (заглушка)\Презентации\Шапка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181240"/>
          </a:xfrm>
          <a:prstGeom prst="rect">
            <a:avLst/>
          </a:prstGeom>
          <a:ln w="0">
            <a:noFill/>
          </a:ln>
        </p:spPr>
      </p:pic>
      <p:grpSp>
        <p:nvGrpSpPr>
          <p:cNvPr id="126" name="Группа 1"/>
          <p:cNvGrpSpPr/>
          <p:nvPr/>
        </p:nvGrpSpPr>
        <p:grpSpPr>
          <a:xfrm>
            <a:off x="4084560" y="3879720"/>
            <a:ext cx="3838680" cy="961920"/>
            <a:chOff x="4084560" y="3879720"/>
            <a:chExt cx="3838680" cy="961920"/>
          </a:xfrm>
        </p:grpSpPr>
        <p:sp>
          <p:nvSpPr>
            <p:cNvPr id="127" name="Content Placeholder 4"/>
            <p:cNvSpPr/>
            <p:nvPr/>
          </p:nvSpPr>
          <p:spPr>
            <a:xfrm>
              <a:off x="4142880" y="3879720"/>
              <a:ext cx="29347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Телефо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9"/>
            <p:cNvSpPr/>
            <p:nvPr/>
          </p:nvSpPr>
          <p:spPr>
            <a:xfrm>
              <a:off x="4084560" y="4260240"/>
              <a:ext cx="38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+7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(916) 181-33-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Группа 2"/>
          <p:cNvGrpSpPr/>
          <p:nvPr/>
        </p:nvGrpSpPr>
        <p:grpSpPr>
          <a:xfrm>
            <a:off x="4084560" y="4689360"/>
            <a:ext cx="4664160" cy="890640"/>
            <a:chOff x="4084560" y="4689360"/>
            <a:chExt cx="4664160" cy="890640"/>
          </a:xfrm>
        </p:grpSpPr>
        <p:sp>
          <p:nvSpPr>
            <p:cNvPr id="130" name="Content Placeholder 4"/>
            <p:cNvSpPr/>
            <p:nvPr/>
          </p:nvSpPr>
          <p:spPr>
            <a:xfrm>
              <a:off x="4084560" y="4689360"/>
              <a:ext cx="2306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Электронная поч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оугольник 10"/>
            <p:cNvSpPr/>
            <p:nvPr/>
          </p:nvSpPr>
          <p:spPr>
            <a:xfrm>
              <a:off x="4355640" y="4998600"/>
              <a:ext cx="43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751565</a:t>
              </a: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@mail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Группа 4"/>
          <p:cNvGrpSpPr/>
          <p:nvPr/>
        </p:nvGrpSpPr>
        <p:grpSpPr>
          <a:xfrm>
            <a:off x="4084560" y="5446800"/>
            <a:ext cx="4575240" cy="847080"/>
            <a:chOff x="4084560" y="5446800"/>
            <a:chExt cx="4575240" cy="847080"/>
          </a:xfrm>
        </p:grpSpPr>
        <p:sp>
          <p:nvSpPr>
            <p:cNvPr id="133" name="Content Placeholder 4"/>
            <p:cNvSpPr/>
            <p:nvPr/>
          </p:nvSpPr>
          <p:spPr>
            <a:xfrm>
              <a:off x="4084560" y="5446800"/>
              <a:ext cx="33249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Официальный сайт прое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16409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оугольник 12"/>
            <p:cNvSpPr/>
            <p:nvPr/>
          </p:nvSpPr>
          <p:spPr>
            <a:xfrm>
              <a:off x="4084560" y="5712480"/>
              <a:ext cx="457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1267"/>
                  </a:solidFill>
                  <a:latin typeface="Calibri"/>
                </a:rPr>
                <a:t>www.doit-together.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395280" y="2989440"/>
            <a:ext cx="3333600" cy="3400200"/>
          </a:xfrm>
          <a:prstGeom prst="rect">
            <a:avLst/>
          </a:prstGeom>
          <a:ln w="0">
            <a:noFill/>
          </a:ln>
        </p:spPr>
      </p:pic>
      <p:grpSp>
        <p:nvGrpSpPr>
          <p:cNvPr id="136" name="Группа 14"/>
          <p:cNvGrpSpPr/>
          <p:nvPr/>
        </p:nvGrpSpPr>
        <p:grpSpPr>
          <a:xfrm>
            <a:off x="4149720" y="3130560"/>
            <a:ext cx="4630680" cy="887400"/>
            <a:chOff x="4149720" y="3130560"/>
            <a:chExt cx="4630680" cy="887400"/>
          </a:xfrm>
        </p:grpSpPr>
        <p:sp>
          <p:nvSpPr>
            <p:cNvPr id="137" name="Content Placeholder 4"/>
            <p:cNvSpPr/>
            <p:nvPr/>
          </p:nvSpPr>
          <p:spPr>
            <a:xfrm>
              <a:off x="4149720" y="3130560"/>
              <a:ext cx="45122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6409e"/>
                  </a:solidFill>
                  <a:latin typeface="Calibri"/>
                </a:rPr>
                <a:t>Координатор направл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оугольник 16"/>
            <p:cNvSpPr/>
            <p:nvPr/>
          </p:nvSpPr>
          <p:spPr>
            <a:xfrm>
              <a:off x="4370400" y="3436560"/>
              <a:ext cx="441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21267"/>
                  </a:solidFill>
                  <a:latin typeface="Calibri"/>
                </a:rPr>
                <a:t>Мария Саха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42:15Z</dcterms:created>
  <dc:creator>АМ</dc:creator>
  <dc:description/>
  <dc:language>en-US</dc:language>
  <cp:lastModifiedBy>Sea</cp:lastModifiedBy>
  <dcterms:modified xsi:type="dcterms:W3CDTF">2013-02-21T07:25:35Z</dcterms:modified>
  <cp:revision>175</cp:revision>
  <dc:subject/>
  <dc:title>Слайд 1</dc:title>
</cp:coreProperties>
</file>