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611-63D3-4DBB-82AD-25BC1B6C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39A-1FEB-4244-8D5D-BB4FA154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433-009C-4B47-8E49-B6881FC0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5B6-EC37-488A-BECC-B058F364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350-7464-4E41-8C23-A30C807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6B3-C008-4873-9CB1-13E2972F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82B-7352-4919-B51B-6FD9523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804-B758-4609-9AAB-2885CFA0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F3D-D458-4882-908C-500C691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C62-D626-47F1-BCCC-8145369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D78-2267-45FD-B778-1B55A86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755-3E39-47B9-995C-C16FA9A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A231-989E-4074-9BF2-B069DFB28D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1238400"/>
            <a:ext cx="8217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Вторичная профилактика суици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торичная профилактика 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осуществля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с группой учащихся, находящихся в трудной жизненной ситуации и высказывающих суицидальные намерения. То есть работать с теми, кто или косвенно (через записки, дневниковые записи, словесные ключи), или прямо говорит о желании самоубийства. Основная задача — предотвращение суицид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первую очередь перед педагогом-психологом стоит задача оценки риска самоубийства. Существует три степени риска: незначительный (наличие суицидальных мыслей без определенных планов), средней степени (наличие суицидальных мыслей, наличие плана без сроков реализации), высокий (есть мысли, разработан план, есть сроки реализации и средства для этого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Оценить степень риска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педагог-психолог может, используя следующие диагностические метод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просник суицидального риска (ОСР),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рта риска суицидальности,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ала оценки риска суицида (Патерсона),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ала безнадежности (Бека)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рамках каждой из степеней риска существуют определенные </a:t>
            </a: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стратегии и действия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ef0f7"/>
                </a:solidFill>
                <a:latin typeface="Calibri"/>
              </a:rPr>
              <a:t>Первоочередные (начальные) задачи психолога при незначительном риске суицид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дагог-психолог должен предложить подростку эмоциональную поддержк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работать суицидальные чув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фокусировать внимание на сильных сторонах подрост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править к психотерапевту (психиатру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стараться встретиться через определенное время и наладить постоянный контак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92d050"/>
                </a:solidFill>
                <a:latin typeface="Calibri"/>
              </a:rPr>
              <a:t>Задачи психолога при наличии риска </a:t>
            </a:r>
            <a:br>
              <a:rPr sz="2800"/>
            </a:br>
            <a:r>
              <a:rPr b="0" i="1" lang="ru-RU" sz="2800" spc="-1" strike="noStrike">
                <a:solidFill>
                  <a:srgbClr val="92d050"/>
                </a:solidFill>
                <a:latin typeface="Calibri"/>
              </a:rPr>
              <a:t>средней степен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редложить подростку эмоциональную поддержку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роработать суицидальные чувств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Укрепить желание жить (через амбивалентные чувства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бсудить альтернативы самоубийств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Заключить контракт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Направить к психотерапевту (психиатру) как можно скорее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Связаться с семьей, друзьями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Calibri"/>
              </a:rPr>
              <a:t>Задачи психолога при наличии </a:t>
            </a:r>
            <a:br>
              <a:rPr sz="3600"/>
            </a:br>
            <a:r>
              <a:rPr b="0" i="1" lang="ru-RU" sz="3600" spc="-1" strike="noStrike">
                <a:solidFill>
                  <a:srgbClr val="ff3300"/>
                </a:solidFill>
                <a:latin typeface="Calibri"/>
              </a:rPr>
              <a:t>высокого риска суицид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остоянно оставаться с подростком, не оставляя его ни на минуту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ри необходимости удалить орудия самоубийств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Заключить контракт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Немедленно связаться с психиатром или опытным врачом, вызвать «скорую помощь» и организовать госпитализацию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Информировать семью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Третичная профилактика суици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ретичная профилактика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едполагает мероприятия, снижающие последствия и уменьшающие вероятность парасуицида, социальную и психологическую реабилитацию суицидента и его социального окружения.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первую очередь адресатом этого профилактического уровня становятся дети или подростки, совершившие попытку суицида. Важно серьезно относиться к подобным действиям, так как при условии сохранения источника боли (фрустрации, конфликта и т.п.) подросток может предпринять вторую попытку «бегства» от проблемы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иболее опасным периодом считаются 1–3-я недели после первой попытк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уществуют три главных компонента ближайшего постсуицид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 конфликта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ь фиксированности суицидальных тенденций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е к совершенной попытке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дача специалистов-психологов получить информацию по каждому из компонентов, чтобы предвидеть дальнейшее развитие событ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b686da"/>
                </a:solidFill>
                <a:latin typeface="Calibri"/>
              </a:rPr>
              <a:t>Задачи психолога на этапе третичной профилактики суицида.</a:t>
            </a:r>
            <a:br>
              <a:rPr sz="3200"/>
            </a:br>
            <a:r>
              <a:rPr b="0" lang="ru-RU" sz="4000" spc="-1" strike="noStrike">
                <a:solidFill>
                  <a:srgbClr val="b686da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пределение типа постсуицидального состояния у подрост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 основании результата разработка шагов социально-психологического сопровождения (в том числе необходимость обращения к врачам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астие в работе консилиума по суицидальному случаю (в организации и работе антикризисного штаба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дивидуальная коррекционная работа с подростк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рганизация групповой работы в классе и включение в нее подростка с целью восстановления навыков адаптации (это может быть коммуникативный тренинг или тренинг фрустрационной толерантности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рганизация консультаций для включенных в случай педагогов, родителей и детей (или консультирование в рамках антикризисного штаба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ониторинг состояния подростка (метод наблюдения, метод интервью, метод опроса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720" y="115920"/>
            <a:ext cx="9194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рвичная экспертная оценка суицидального повед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4240" y="1197000"/>
            <a:ext cx="8321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ждая оценка суицидального поведения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олжна включать в себя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оверку имеющих отношение к суициду факторов риска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сторию проявлений суицидального поведения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неизменяемые биологические, психосоциальные, психические, ситуативные условия, или состояние здоровья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степень проявления текущих суицидальных симптомов, включая уровень ощущения безнадежности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внезапные сильные факторы стресса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уровень импульсивности и самоконтроля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защитные факторы (антисуицидальные факторы)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Защитные (антисуицидальные) факторы лич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125000"/>
            <a:ext cx="8812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оддержка семьи, друзей, других важных в жизни человека люде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Религиозные, культурные и этнические ценност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риносящая удовлетворение жизнь в обществе, школьном коллекти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Социальная интеграция, например, через учебную деятельность, конструктивное использование досуг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Интенсивная эмоциональная привязанность к значимым близки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Выраженное чувство долга, обязатель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Концентрация внимания на состоянии собственного здоровья, боязнь причинения себе физического страдания или ущерб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Зависимость от общественного мнения и избежание осуждения со стороны окружающих; представления о позорности, греховности суицид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редставление о неиспользованных жизненных возможностях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Наличие творческих планов, тенденций, замысл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Наличие эстетических критериев в мышлении (нежелание выглядеть некрасивым даже после смерти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с двумя скругленными противолежащими углами 7"/>
          <p:cNvSpPr/>
          <p:nvPr/>
        </p:nvSpPr>
        <p:spPr>
          <a:xfrm>
            <a:off x="357120" y="5143680"/>
            <a:ext cx="8429760" cy="1357200"/>
          </a:xfrm>
          <a:prstGeom prst="pie">
            <a:avLst/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357120" y="3714840"/>
            <a:ext cx="8429760" cy="13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Прямоугольник с двумя скругленными противолежащими углами 5"/>
          <p:cNvSpPr/>
          <p:nvPr/>
        </p:nvSpPr>
        <p:spPr>
          <a:xfrm>
            <a:off x="428760" y="1928880"/>
            <a:ext cx="8358120" cy="1714320"/>
          </a:xfrm>
          <a:prstGeom prst="pie">
            <a:avLst/>
          </a:prstGeom>
          <a:solidFill>
            <a:srgbClr val="ff99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Прямоугольник с двумя скругленными противолежащими углами 3"/>
          <p:cNvSpPr/>
          <p:nvPr/>
        </p:nvSpPr>
        <p:spPr>
          <a:xfrm>
            <a:off x="428760" y="357120"/>
            <a:ext cx="7143480" cy="14288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рограммы предотвращения самоубийств, действующие на базе шко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 учетом степени суицидального риска  решают следующие задачи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928520"/>
            <a:ext cx="8501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Программы предотвращения самоубийств, рассчитанные на подростко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группы высокого рис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правленные на выработку у них навыков и оказание социальной поддержки, эффективны в снижении факторов риска (депрессия, чувство безнадежности, стресс, беспокойство и гнев), а также в усилении защитных факторов (самоконтроль, навыки решения проблем, самоуважение и сетевая поддержка)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рограммы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офилактики самоубийст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правленные на изменение форм поведения, а также на улучшение психологической адаптации, снижают степень антивитальных переживаний и аутоагрессивного поведения, улучшают идентификацию своего «Я» и психологическую адаптацию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осветитель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ограммы по проблеме самоубийств рассчитаны на общий контингент школьников, педагогов, родителей. Повышаются знания о причинах развития суицидального поведения, способов совладания и тех ресурсах, которые можно использовать в качестве поддержк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мерная шкала оценки суицидального риска </a:t>
            </a:r>
            <a:br>
              <a:rPr sz="2400"/>
            </a:b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(рекомендации ВОЗ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907560"/>
            <a:ext cx="9036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Calibri"/>
              </a:rPr>
              <a:t>Риск отсутствует.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По сути, риска нанесения себе вреда (членовредительства) не существует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Calibri"/>
              </a:rPr>
              <a:t>Незначительный.</a:t>
            </a:r>
            <a:r>
              <a:rPr b="0" i="1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Суицидальные идеи ограничены, нет твердых планов или подготовки к нанесению себе вреда, известно всего лишь несколько факторов риска. Намерение совершить самоубийство не очевидно, но суицидальные идеи присутствуют. У индивидуума нет определенных планов и не было попыток самоубийства в прошлом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Calibri"/>
              </a:rPr>
              <a:t>Умеренный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На лицо твердые планы и подготовка с заметным присутствием суицидальных идей, возможно наличие попыток суицида в прошлом, и, по крайней мере, два дополнительных фактора риска. Или, при наличии более одного фактора риска суицида, присутствуют суицидальные идеи и намерение, но отрицается наличие четкого плана. Присутствует мотивация улучшить, по возможности, свое текущее эмоциональное состояние и психологический статус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Calibri"/>
              </a:rPr>
              <a:t>Высокий.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Четкие и твердые планы и подготовка к тому, чтобы причинить себе вред, или известно, что у индивидуума были многочисленные попытки самоубийства в прошлом, наличие двух или более факторов риска. Суицидальные идеи и намерения вербализуются наряду с хорошо продуманным планом и средствами для выполнения этого плана. Индивидуум проявляет когнитивную жесткость и отсутствие надежд на будущее, отвергает предлагаемую социальную поддержку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Уровни профилактики суицид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в учреждении образован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Calibri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І уровень – ОБЩАЯ ПРОФИЛАКТИК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– повышение групповой сплоченности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птимизация психологического микроклимата в школе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Calibri"/>
                <a:ea typeface="Times New Roman"/>
              </a:rPr>
              <a:t>ІІ уровень – ПЕРВИЧНАЯ ПРОФИЛАКТИК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– повышение компетентности участников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зовательного процесса (педагогов, родителей и учеников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области профилактики суицидального риска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зания поддержки и помощи детям и подросткам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завшимся в трудной жизненной ситуац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Times New Roman"/>
              </a:rPr>
              <a:t>ІІІ уровень – ВТОРИЧНАЯ ПРОФИЛАКТИК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- предотвращение самоубийств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ІV уровень – ТРЕТИЧНАЯ ПРОФИЛАКТИК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– снижение последствий и уменьшение вероятности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льнейших случаев, социальная и психологическая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билитация суицидентов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ff3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ff3ca"/>
                </a:solidFill>
                <a:latin typeface="Calibri"/>
              </a:rPr>
              <a:t>Задачи </a:t>
            </a:r>
            <a:r>
              <a:rPr b="1" i="1" lang="ru-RU" sz="2500" spc="-1" strike="noStrike">
                <a:solidFill>
                  <a:srgbClr val="5ff3ca"/>
                </a:solidFill>
                <a:latin typeface="Calibri"/>
              </a:rPr>
              <a:t>общей профилактики суицида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овышение групповой сплоченности детских и педагогического коллективов, оптимизация психологического климата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ff3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ff3ca"/>
                </a:solidFill>
                <a:latin typeface="Calibri"/>
              </a:rPr>
              <a:t>Они могут быть реализованы в следующих мероприятиях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иагностика ученических и педагогического коллективов с целью уточнения особенностей социально-психологического климата; тренинги сплочения и коммуникативной компетентности в детских коллективах; групповые занятия по профилактике эмоционального выгорания для педагогов; а также другие мероприятия для оптимизации психологического климата (акции, большие психологические игры, конкурсы и пр.)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ff3ca"/>
                </a:solidFill>
                <a:latin typeface="Calibri"/>
              </a:rPr>
              <a:t>Задачи психолога на этапе </a:t>
            </a:r>
            <a:br>
              <a:rPr sz="4000"/>
            </a:br>
            <a:r>
              <a:rPr b="1" lang="ru-RU" sz="4000" spc="-1" strike="noStrike">
                <a:solidFill>
                  <a:srgbClr val="5ff3ca"/>
                </a:solidFill>
                <a:latin typeface="Calibri"/>
              </a:rPr>
              <a:t>общей профилактики суици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учение особенностей социально-психологического статуса и адаптации учащихся с целью своевременной профилактики и эффективного решения возникших трудностей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стие в создании системы психолого-педагогической поддержки учащихся разных возрастных групп (система волонтеров, медиаторов по разрешению конфликтов, педагогическая поддержка, психологическое консультирование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стие в разработке и проведении общешкольных и классных мероприятий, целью которых будет содействие формированию позитивного образа Я, уникальной и неповторимой личности, коммуникативной компетентности, ценностного отношения к жизни и др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ервичная профилактика суици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существляется в отношении детей и подростков группы риска, имеющих в наличии три и более факторов суицидального риска. Мы не можем говорить о том, что эти дети обязательно будут реализовывать суицидальные намерения. Но, учитывая наличие комплекса суицидальных факторов, необходимо в отношении этой группы осуществлять профилактические мер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ую очередь необходимо провести комплекс мероприятий, содействующих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овышению компетентности педагогов и родителей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области распознавания маркеров суицидального риск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оказать поддержку детям и подросткам, оказавшимся в трудной жизненной ситуаци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Работа с семьей подростк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попавшего в трудную жизненную ситуацию или испытывающего кризисное состояние, должна носить комплексный характер.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дачи психолога на этапе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ервичной профилактики суици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На основании анализа наблюдений, текущей диагностики, жалоб учителей, запросов родителей выделить подростков группы риска, в том числе имеющих комплекс суицидальных факторов (по нашему опыту, почти у всех подростков группы риска или находящихся в социально опасном положении он есть)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вести дополнительную диагностику, позволяющую оценить патохарактерологические особенности, уровень тревожности и агрессивности, степень дезадаптации, степень риска по суициду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вести анализ диагностических данных с выходом на рекомендации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Участвовать в работе консилиума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дачи психолога на этапе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ервичной профилактики суици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аствовать в разработке и реализации индивидуальных программ сопровождения. Включить подростков группы риска в индивидуальные и групповые занятия, целью которых будет: отреагирование эмоционального напряжения, реабилитация коммуникативной компетентности, реабилитация образа Я, развитие фрустрационной толерантности, ранняя профилизация и др., то есть осуществить то, что обычно делае тпедагог-психолог в рамках коррекционного направления психолого-педагогического сопровождени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ализовать свою часть ответственности при работе с семьей подрост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работать памятки для родителей и педагогов (как распознать острое кризисное состояние у ребенка и что с этим делать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рганизовать встречи педагогов и родителей с другими специалиста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ля группы риска уже необходимо проведение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более подробного диагностического обследования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что является частью психологопедагогического сопровожде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Методики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тохарактерологический опросник (Личко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ст фрустрационной толерантности (Розенцвейга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осник суицидального риска (ОСР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осник социально-психологической адаптации (Роджерса–Даймонда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ала самооценки уровня тревожности (Спилбергера–Ханина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осник агрессивности (Баса–Дарки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одростков с выраженным комплексом суицидальных факторов дополнительно можно предложить проективный тест Сильвера «Нарисуй историю», метод незаконченных предложений (Подмазина С.И.), которые покажут область эмоционального напряжения и актуальность намерен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2-05-03T08:40:20Z</dcterms:modified>
  <cp:revision>27</cp:revision>
  <dc:subject/>
  <dc:title>Слайд 1</dc:title>
</cp:coreProperties>
</file>